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601-C0FF-41E0-8BB9-11957C7E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DC1-3F6F-474B-B077-12A458D5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CE7-0ECA-4C59-BA88-3CCB761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95E-5E9C-487A-8350-AE910BF2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993-DBF7-4304-B0A9-5B70B72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EB3-FE44-4282-A1B7-2B301CAF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B7A-130C-4EA4-B27A-50C52A16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3A9-D475-4332-B8F6-99D0F14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4C2-00DD-4F21-BF76-4EF4B8D0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C91-7150-44DC-A7F1-CF2D67C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92A-6DBB-4D7A-A01C-B416F68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902E-8EA3-4F44-AB64-7F7436B3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85E6-017E-400A-8F69-6F43C9A2C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usetute.com.au/lewisstr.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youtube.com/watch?v=ioj8BX9dlz0" TargetMode="Externa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jge1WdCFPs&amp;feature=PlayList&amp;p=A5B4A01AA0EC345E&amp;playnext=1&amp;playnext_from=PL&amp;index=1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Electron configu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 atom always wants to be stable (meaning no reactions) an atom is stable if the highest occupied energy level is full (can’t hold anymore e-’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ble atoms are not likely to re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2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electrons in outer shell = s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09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 exception = He has 2 e-’s to be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a model to show the valence electrons (outer shell electrons) called the electron dot diagram (Lewis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e page 159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titled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848720" cy="167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lence electrons (outer shell)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hown by do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  Group A elements all have the number of electrons as the group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86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LENCE  electrons are the reason for the chemical propertie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ctions take place between elements who are not stable (unfilled outer she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ity, therefore there is bo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362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nding is transferring electrons between elements to get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048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electrons are transferred, the # of e- and p+ are now differ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 atom is no longer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886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 atom is no longer netural, they have an electrical charge (+ or 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y atom that has a + or – charge we call a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 char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94101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03240" cy="278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57600" y="11430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first atom (lithium)needs to lose 1 to be stable.  The second atom (chlorine) needs to gain 1 to be s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20968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, lithium has lost a e-, so it becomes positive.  Chlorine has gained a e-, so it become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048120"/>
            <a:ext cx="5257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hium = 3 protons, 2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lorine = 17 protons, 1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91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gives away all of its valence electrons so its outer shell is empty, it disappears and we now have a new outer shell which is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c bon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kes place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3:04:09Z</dcterms:created>
  <dc:creator>jpak</dc:creator>
  <dc:description/>
  <dc:language>en-US</dc:language>
  <cp:lastModifiedBy>User</cp:lastModifiedBy>
  <dcterms:modified xsi:type="dcterms:W3CDTF">2010-10-27T14:20:17Z</dcterms:modified>
  <cp:revision>11</cp:revision>
  <dc:subject/>
  <dc:title>Note guide 4-1 day 1</dc:title>
</cp:coreProperties>
</file>